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6A7-53CB-4320-B1C6-59064F48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6BE7-BE2D-4017-9BE6-04846354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081-3C4D-4522-BB94-BD08499D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DA0-ED1A-4286-8132-01598344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81E-4020-4F3D-B16D-3EE65C86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DC5-56DA-40F0-8955-9180C159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820C-B04E-4D6C-96AC-CB3E024C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F574-786A-4CD7-BCCF-DF96D1D5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7CF-0E27-4B32-B24D-603B35BD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83A-C952-417A-B724-8B55A68E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6633-9DAF-45C5-AF78-CB187DB4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19A-F669-4767-8E41-794957CA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E7F9-7680-4EA2-9F75-ED5B53A97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s and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7760" y="2278080"/>
            <a:ext cx="8988480" cy="2306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26668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 letter that stands for a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3124080"/>
            <a:ext cx="571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 mathematical phrase that uses variables, nu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nd operation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67652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dentifying Numerical and Variable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686800" cy="3178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1600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nume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25146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991720" cy="97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3733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9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533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: Writing Variable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86728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360" y="119160"/>
            <a:ext cx="9123480" cy="662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144792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Variable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523880"/>
            <a:ext cx="19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Nume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1523880"/>
            <a:ext cx="2209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8862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.05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571500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6095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4003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419720" y="13716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y +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19810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n 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5146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2819520"/>
            <a:ext cx="2438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5(4 +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90360"/>
            <a:ext cx="9144000" cy="2500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617220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971800"/>
            <a:ext cx="7391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rite an explanation of the differences between a variable, a variable expression and a numerical ex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40:08Z</dcterms:created>
  <dc:creator>Susannah Graham</dc:creator>
  <dc:description/>
  <dc:language>en-US</dc:language>
  <cp:lastModifiedBy>Graham</cp:lastModifiedBy>
  <dcterms:modified xsi:type="dcterms:W3CDTF">2011-08-18T12:53:42Z</dcterms:modified>
  <cp:revision>3</cp:revision>
  <dc:subject/>
  <dc:title>Lesson 1.1 Variables and Expressions</dc:title>
</cp:coreProperties>
</file>